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5F0-D6B1-44B3-82E3-994E49A9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FC3-94D4-4D33-9BED-A23E038B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98B97-1D26-4ADE-BBD3-A204E056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4FC3B-F0A5-4EB2-BB50-EDB66F13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B8892-06D2-43C9-9D54-95DFB8C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469BE-E1C0-4CF5-B4A7-073A4BE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7F78-7EC9-4F06-ABB0-EF83DA32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8F586-5E40-4F34-A192-02149246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11036-C87E-4950-8555-C34ADDF3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EF291-39BA-48A4-B9AA-5BCABF9A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474AE-31AC-42A7-829E-FE9B9178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944F2-563F-4A4A-A6EF-A603B7D7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E6F-E8FC-4ED6-AF3A-64ACD7B3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E1AA5-AC6D-49AF-B1EE-DCCE808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DB8E95-3D81-480A-896F-9EF12126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C7AA-E1B0-46D3-92C0-3F1E7E39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216F7-28CE-4504-8FC3-0F9E0F00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16654-9215-4145-83F1-4402668F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8F606-0538-486B-9A57-FC87BBD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4CF06B-B08C-4AF1-8B08-E9CC6575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12C8F-8FA9-48F0-8252-6864C191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2BCFC-2395-4AD6-AA59-88CD3806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9899C-3BE8-4CE8-BBBD-6DEE60A2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3E1-2543-4F49-8E70-B912BD772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81DF8-2A59-4807-8B03-12EE4B0E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E816C-9F73-48AA-AC36-9F32136C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A9783-EE57-4912-80AE-21F766F1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2F366-E2A0-468B-8017-87BAD760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3447B-4790-4378-BDD6-CD967A65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2DF8-E48A-4AB4-A9EA-4EB00A4B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1F38C-B0B4-4963-9290-DB56CBAC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61700-F016-4AC4-87AF-E447C60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090F3-CDC5-4B01-A10A-E945B714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3DA5A-3CBD-43D6-A4A0-A405BBFB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583A-6839-4A7C-9D2D-553EAE9B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E0B57-180C-4E66-9A6F-32B0FCD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B27D-FD11-44EA-A1E7-A161098D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ACF7C-41E7-4726-954E-229F68F2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AAE2A-40A4-4FCD-862D-2C7F51CF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4CE4F-3A5A-4260-A13A-A80CF5AD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BF457-D157-4F76-9FA3-7EF26842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4343B-2844-4AB0-8716-723CF6C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A3C61-5723-4A1F-A57D-32AB94A4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945B5-86D0-4A99-8FAF-BBB93DB5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4835F-B7CE-49F1-8294-D590F68E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ACE3-3955-4306-851C-39C2131F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79924-F2B6-409E-86F1-BC22A4E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64246-FE95-4CB1-B105-73569C2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74501-E3A6-4FAB-A84B-9D59FC75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4B2AB-68CF-4F44-9797-BF95FCF1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43296-F460-42D9-85E8-A0F758A5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0146E-BF2C-4833-B6A3-61A118C4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A4993-B7E7-4945-9C40-4377F0B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CC7B8-AF54-4BD2-A673-9060AC54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0EA2C-FFD1-4D9B-B19A-F7507D8A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C87933-86CA-491F-AF05-D9489BEF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7785-B20F-4784-925D-740CE8CD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56F21-0AD4-44F0-947B-BE14F50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62B6A-D251-43C1-A819-3159351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631FA-2C10-4834-8D3E-75DF6C98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33306-77E2-47F9-BA55-8D4DA5A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5E8CB-DA50-47A7-8900-5BB53285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B2C52-34B6-43A9-8852-FF3EF0FA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5B91A5-0F2B-43D7-9948-21AE05B38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C9FF-1B81-4922-A861-C382F11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A566-2FFF-446C-A28D-66BEFF07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EB15-9A2D-4506-8AE7-C549B39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247B-6928-4E30-A222-0D091D3E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64F-2B1C-492F-A1C6-AB871232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9BC-9E13-4742-AE19-9A79D8C2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1128-80D7-483D-A0A9-803C4569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60B5-FFF7-4B7F-B3AC-A7DD869A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4406-E203-409C-98DE-C6B0BBAD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C7EE-3A9E-483C-AB74-78040E72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8CE8D-63DB-4DBE-8DE0-390A4106F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080C-8FF1-4A8E-8BA0-F633BD6E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2F4B2-2DE5-4BF0-AA45-73FC5AEB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EAF9-306B-49F0-85D2-CF75026D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1AC13-2E57-4214-A771-1D7E4DB8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C40-7B3D-4198-B29D-12B796B3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9533-8D6F-4940-B9AE-773BEB5D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7775-B9A9-4EBC-8F17-D97C2896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E5A4D-7E60-49D8-A111-9B334F53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E265A-130F-4351-9511-CB677D3D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1E4CA-7F22-4E3F-A4B2-048850D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58667-6C83-4819-9221-A40F5B3A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2762E-F8F3-40F5-8FC1-7C81B756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F5B8-CF0A-4266-AA91-A92F544C3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3BACC-778C-4C1E-8193-FE21474A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275A-4CDC-437E-8AC8-4F5D9B06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1081-37E0-4A64-8AF8-D23E8FAE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7AF69-4E12-4BD8-AFC0-72E1424F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8938-5BE4-4B7C-A7D1-06AFB40E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59B9F-743B-48AD-9F82-8C69FB15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8243-3BEE-4D48-96AE-EA6BF36A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E9BE9-09D8-48A8-AC95-23EC3D75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D52E6-DAD5-4A30-A00C-DFEF2DCE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6BE2F-CC64-466F-93DC-32A7332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79025-83A4-43BF-AF68-A7A7EB2F8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6706-8021-4DB6-BBDC-2127AFE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04D9-4861-4EBA-B61E-F2C68BF0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D6E5-2B7C-4682-AB9D-F4C3BF4F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CF5D4-8243-4CDC-A70F-877DF514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2B5E-EBC2-451F-B56D-E509624B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2D7695-69D1-4B19-93FE-853CE8D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06E1-CC6E-490D-85B5-D6E93C29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D0A70-70A3-486B-BB37-4B1BFB15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0ABA-C8E2-4EE1-AAE6-DEEE62B9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92DC-9223-4C6A-B49C-EC49619D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5D7C3-8724-43CE-AF3D-A3C16F7F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0772C-EA11-42D5-939B-725C411A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D0863-64C7-451A-9A91-CC368C08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0A7-8DB2-423C-BD40-D6E78131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54AA8-717F-4420-B88F-AB270B664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26CD4-7F45-4186-ADC6-1D45189B6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4F597-CEE8-42A1-8304-DA139071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709D4-8967-4CD0-8A2C-50A8561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49F0C-709B-48E0-9635-3927168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2287-2A6A-4D7D-8D2F-CF733DB0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53C1A-C069-4FEF-87E2-48568792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95498-3EDE-4C36-A555-100CBD2E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F282-A19F-4F22-A5B4-3E45532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17A5D-DDAF-4B86-B0E3-4491B8D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10E6-F241-4C05-8023-59BCE47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0930-C0FD-4CF0-B316-42812632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6FBB1-126A-428C-8C17-C4E8C72A2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83F12-2BC0-4D54-B6B2-395DDD4F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D149-57B2-453D-ADC2-4D1EB533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D40AB-4680-4D09-9008-6D7016DD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857FB-B232-44ED-B47C-3D1BB183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10AF0-1E2B-4C3F-9AF7-E058E640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0A2C1-B196-4334-8E5A-D7B05E87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A24D-F067-40F0-BB75-938894E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441B8-1431-42C7-8C54-ED7BC9B6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AE9-1CCE-48B7-9805-0E909426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AEBB1-81D3-48CD-9E18-793ECC12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E66E-2AE4-4584-9D2D-6A8AF47E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CE5FA-1DB9-4619-B719-FB7A8877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92E61-F36E-4D86-B949-484CE118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815DF-E742-4C66-99AB-A9A89D7E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4CC45-27DE-4E67-92F6-6D4B3582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0B5DF-AB1E-43F0-B80C-0831E92D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0541F-96FF-442D-8072-A24C725F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DA59-AEE1-4531-BC75-6F89E15F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EF503-95EC-4D78-BC4C-39FAE02A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F64-38D9-4278-95AD-075BBE9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46AB8-9508-42CD-BFBE-29B50009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86931-7F9D-4C8D-AF75-E299A961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B441C-0AC3-41BC-B045-C5EF7ED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23A4-4571-4A06-B3D0-83451669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5534-3352-4647-8604-0C88BC5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C42F8-01AE-45FE-A325-5EA04433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46278-B9C8-4D34-82F4-2F8B46F0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DC4DF-6360-42C3-AD45-60ED6434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20463-C570-4598-B306-50C74EFC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DF1AD-C609-4950-9ACE-ED7A493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6452-B7F9-4091-9942-9B8AEF08CE55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CD55-E15B-48D5-BF70-A108B78F5794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433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184-8A55-4D1C-9AAE-CC5E80BBB75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F13F-4144-415F-A105-70CD5A0AEEC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48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F0E-1A88-403B-B751-ECAD18B86CFB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5365-548D-4124-998C-3D0EF0AB17CE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DDCF-CC6D-4416-B138-816EB766EC63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C944-C5B8-4B30-99DF-380C182D620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7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6BB0-D784-4921-84E5-0DFA60CD2CC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03E-37A5-42F6-B508-AAB879230DC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FFF8-236D-4FEC-BCA4-6B0CEA647140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1EB-F90F-457D-A29F-ECBE2E9BB906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98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AB9D-2371-4DE9-B353-F21792F9F0A2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D514-D6FD-494C-B970-7B7F81F7B471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C04-C451-41EC-99A6-A707C67C18E5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996-411D-46E0-B1AE-6E38E0DB36F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28BD-3DCA-4C59-AC66-23F8933294E9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2032-1385-4D93-8D1E-E0CD53B6AEA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41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DBD8-B0CD-4F1D-9C15-626A2383B14E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166F-FDAF-41F9-A678-2BE28FC71D7B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89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B0C-09CA-4CB5-BCDD-A73120541127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7DB-D8F6-4A53-8E4A-394BEE49A497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08B7-331F-4CDD-8313-9C8EFE4725AC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B5BC-C3DD-4425-9F81-9FD5FFF68971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85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6E1-0D23-4DA2-8E11-CA5E65D4C52F}" type="datetime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7DB6-AD4D-44DB-9960-9A639E000F92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3162240" y="420372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 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244440" y="3295800"/>
            <a:ext cx="18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Unit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1806480" y="3125880"/>
            <a:ext cx="733752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Have you read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Treasure Islan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y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6"/>
          <p:cNvSpPr/>
          <p:nvPr/>
        </p:nvSpPr>
        <p:spPr>
          <a:xfrm>
            <a:off x="244440" y="3997440"/>
            <a:ext cx="851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2719440" y="5199120"/>
            <a:ext cx="441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ctionA 3a-3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rammar Focus-4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Oval 2"/>
          <p:cNvSpPr/>
          <p:nvPr/>
        </p:nvSpPr>
        <p:spPr>
          <a:xfrm>
            <a:off x="544680" y="208080"/>
            <a:ext cx="1196640" cy="106668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855720" y="1274760"/>
            <a:ext cx="7640640" cy="4042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. Friday saw some marks of another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man’s feet on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. Robinson tried to kill the two 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4"/>
          <p:cNvSpPr/>
          <p:nvPr/>
        </p:nvSpPr>
        <p:spPr>
          <a:xfrm>
            <a:off x="1339920" y="2654280"/>
            <a:ext cx="7326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binson saw some marks of another man's feet on the b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1339920" y="4664160"/>
            <a:ext cx="7326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cannibals tried to kill the two m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Oval 2"/>
          <p:cNvSpPr/>
          <p:nvPr/>
        </p:nvSpPr>
        <p:spPr>
          <a:xfrm>
            <a:off x="836640" y="228600"/>
            <a:ext cx="3754440" cy="134928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66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Grammar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414360" y="2004840"/>
          <a:ext cx="8432640" cy="4524480"/>
        </p:xfrm>
        <a:graphic>
          <a:graphicData uri="http://schemas.openxmlformats.org/drawingml/2006/table">
            <a:tbl>
              <a:tblPr/>
              <a:tblGrid>
                <a:gridCol w="3778200"/>
                <a:gridCol w="4654440"/>
              </a:tblGrid>
              <a:tr h="1298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ve you read </a:t>
                      </a:r>
                      <a:r>
                        <a:rPr b="1" i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ttle Women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t?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have. / No, I haven't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1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 Tina read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e Island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y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she has. She thinks it's fantasti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2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you decided which book to write about y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I have. I've already finished reading it. It was really good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9" name="Text Box 27"/>
          <p:cNvSpPr/>
          <p:nvPr/>
        </p:nvSpPr>
        <p:spPr>
          <a:xfrm>
            <a:off x="5067360" y="228600"/>
            <a:ext cx="223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语法内容请见学案对应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AutoShape 2"/>
          <p:cNvSpPr/>
          <p:nvPr/>
        </p:nvSpPr>
        <p:spPr>
          <a:xfrm>
            <a:off x="831960" y="235080"/>
            <a:ext cx="7626240" cy="1352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4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Use the words in bracket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complete the convers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93680" y="1940040"/>
            <a:ext cx="8483760" cy="4042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A: Would you like something to drin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No, thanks. ________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. (just/ drink some te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A: I heard you lost your k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____________________? (fi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: No, not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1403280" y="2770200"/>
            <a:ext cx="6715080" cy="1257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 have just dru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ome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1403280" y="4624560"/>
            <a:ext cx="417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ave you found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6" dur="500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Oval 2"/>
          <p:cNvSpPr/>
          <p:nvPr/>
        </p:nvSpPr>
        <p:spPr>
          <a:xfrm>
            <a:off x="558720" y="235080"/>
            <a:ext cx="1027080" cy="85716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4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72880" y="1379160"/>
            <a:ext cx="8398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A: Do you know when Tom is leaving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___________________. (already/ leave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: When ___________________? (leave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This morning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A: Is your sister going to the movies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us tonight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No. ____________________________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lready/ see the film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344600" y="2055960"/>
            <a:ext cx="53276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e has already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187800" y="2697120"/>
            <a:ext cx="2519280" cy="532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did he le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036880" y="5100480"/>
            <a:ext cx="5797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he has already seen the fi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1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4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1" dur="500"/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Oval 2"/>
          <p:cNvSpPr/>
          <p:nvPr/>
        </p:nvSpPr>
        <p:spPr>
          <a:xfrm>
            <a:off x="544680" y="208080"/>
            <a:ext cx="1196640" cy="106668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4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768240" y="1274760"/>
            <a:ext cx="753264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 A: What do your parents think about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r plan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: I ___________________. (not/ tell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m/yet)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2035080" y="3019320"/>
            <a:ext cx="43657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haven’t told them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5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AutoShape 2"/>
          <p:cNvSpPr/>
          <p:nvPr/>
        </p:nvSpPr>
        <p:spPr>
          <a:xfrm>
            <a:off x="831960" y="235080"/>
            <a:ext cx="7626240" cy="13525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4b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Fill in the blanks with the correc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forms of the words in brackets.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495360" y="1900080"/>
            <a:ext cx="83836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lly _____ (love) reading. In the morning ,she reads the newspaper and in the evening she reads books. She ______ already _____ (read) more than 100 different books. Her favorite kind of books is science fiction. She is interested in science and technology and loves to imagine what the world ______ (be) like in 5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4"/>
          <p:cNvSpPr/>
          <p:nvPr/>
        </p:nvSpPr>
        <p:spPr>
          <a:xfrm>
            <a:off x="1503360" y="1900080"/>
            <a:ext cx="12240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l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3573360" y="2998800"/>
            <a:ext cx="936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6240600" y="2998800"/>
            <a:ext cx="10792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5105520" y="5129280"/>
            <a:ext cx="17301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ill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Oval 2"/>
          <p:cNvSpPr/>
          <p:nvPr/>
        </p:nvSpPr>
        <p:spPr>
          <a:xfrm>
            <a:off x="544680" y="209520"/>
            <a:ext cx="1066680" cy="9619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4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546120" y="1366920"/>
            <a:ext cx="781992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e _______ (finish) reading a book about robots last week and _________ (write) a book report about it next week for her French class. Every time she is in the library, Sally looks at the many books she __________ (not read) yet and she can’t wait to read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1415880" y="1422360"/>
            <a:ext cx="208944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fini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5991120" y="2216160"/>
            <a:ext cx="23749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will 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6"/>
          <p:cNvSpPr/>
          <p:nvPr/>
        </p:nvSpPr>
        <p:spPr>
          <a:xfrm>
            <a:off x="2765520" y="4794120"/>
            <a:ext cx="273528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hasn’t 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AutoShape 2"/>
          <p:cNvSpPr/>
          <p:nvPr/>
        </p:nvSpPr>
        <p:spPr>
          <a:xfrm>
            <a:off x="2249640" y="247680"/>
            <a:ext cx="6427800" cy="17305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4c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ete the chart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nformation about yo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nd your friend.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281160" y="2395440"/>
            <a:ext cx="4987800" cy="4254480"/>
            <a:chOff x="281160" y="2395440"/>
            <a:chExt cx="4987800" cy="4254480"/>
          </a:xfrm>
        </p:grpSpPr>
        <p:pic>
          <p:nvPicPr>
            <p:cNvPr id="695" name="Picture 4" descr="u=3742819814,3116653397&amp;fm=23&amp;gp=0"/>
            <p:cNvPicPr/>
            <p:nvPr/>
          </p:nvPicPr>
          <p:blipFill>
            <a:blip r:embed="rId1"/>
            <a:srcRect l="0" t="0" r="70381" b="10746"/>
            <a:stretch/>
          </p:blipFill>
          <p:spPr>
            <a:xfrm>
              <a:off x="281160" y="3356640"/>
              <a:ext cx="1968120" cy="329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AutoShape 5"/>
            <p:cNvSpPr/>
            <p:nvPr/>
          </p:nvSpPr>
          <p:spPr>
            <a:xfrm>
              <a:off x="1937520" y="2395440"/>
              <a:ext cx="3331440" cy="139212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99"/>
            </a:solidFill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What books hav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you already rea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6"/>
          <p:cNvGrpSpPr/>
          <p:nvPr/>
        </p:nvGrpSpPr>
        <p:grpSpPr>
          <a:xfrm>
            <a:off x="3016080" y="3011400"/>
            <a:ext cx="6002280" cy="3373560"/>
            <a:chOff x="3016080" y="3011400"/>
            <a:chExt cx="6002280" cy="3373560"/>
          </a:xfrm>
        </p:grpSpPr>
        <p:pic>
          <p:nvPicPr>
            <p:cNvPr id="698" name="Picture 7" descr="u=3742819814,3116653397&amp;fm=23&amp;gp=0"/>
            <p:cNvPicPr/>
            <p:nvPr/>
          </p:nvPicPr>
          <p:blipFill>
            <a:blip r:embed="rId2"/>
            <a:srcRect l="49524" t="0" r="23383" b="9095"/>
            <a:stretch/>
          </p:blipFill>
          <p:spPr>
            <a:xfrm>
              <a:off x="7207200" y="3011400"/>
              <a:ext cx="181116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AutoShape 8"/>
            <p:cNvSpPr/>
            <p:nvPr/>
          </p:nvSpPr>
          <p:spPr>
            <a:xfrm>
              <a:off x="3016080" y="4230000"/>
              <a:ext cx="3996360" cy="1677600"/>
            </a:xfrm>
            <a:prstGeom prst="wedgeRoundRectCallout">
              <a:avLst>
                <a:gd name="adj1" fmla="val 58842"/>
                <a:gd name="adj2" fmla="val -46504"/>
                <a:gd name="adj3" fmla="val 16667"/>
              </a:avLst>
            </a:prstGeom>
            <a:solidFill>
              <a:srgbClr val="ffccff"/>
            </a:solidFill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 have already read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om Sawyer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and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arry Potter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  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Oval 2"/>
          <p:cNvSpPr/>
          <p:nvPr/>
        </p:nvSpPr>
        <p:spPr>
          <a:xfrm>
            <a:off x="544680" y="209520"/>
            <a:ext cx="1066680" cy="9619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4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61920" y="690480"/>
            <a:ext cx="4998600" cy="5596200"/>
            <a:chOff x="61920" y="690480"/>
            <a:chExt cx="4998600" cy="5596200"/>
          </a:xfrm>
        </p:grpSpPr>
        <p:pic>
          <p:nvPicPr>
            <p:cNvPr id="702" name="Picture 4" descr="u=3742819814,3116653397&amp;fm=23&amp;gp=0"/>
            <p:cNvPicPr/>
            <p:nvPr/>
          </p:nvPicPr>
          <p:blipFill>
            <a:blip r:embed="rId1"/>
            <a:srcRect l="0" t="0" r="70381" b="10746"/>
            <a:stretch/>
          </p:blipFill>
          <p:spPr>
            <a:xfrm>
              <a:off x="61920" y="2407680"/>
              <a:ext cx="2316960" cy="387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AutoShape 5"/>
            <p:cNvSpPr/>
            <p:nvPr/>
          </p:nvSpPr>
          <p:spPr>
            <a:xfrm>
              <a:off x="2016000" y="690480"/>
              <a:ext cx="3044520" cy="17172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88920">
              <a:solidFill>
                <a:srgbClr val="00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What do you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think of them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Group 6"/>
          <p:cNvGrpSpPr/>
          <p:nvPr/>
        </p:nvGrpSpPr>
        <p:grpSpPr>
          <a:xfrm>
            <a:off x="2379600" y="2122560"/>
            <a:ext cx="6464160" cy="4164120"/>
            <a:chOff x="2379600" y="2122560"/>
            <a:chExt cx="6464160" cy="4164120"/>
          </a:xfrm>
        </p:grpSpPr>
        <p:pic>
          <p:nvPicPr>
            <p:cNvPr id="705" name="Picture 7" descr="u=3742819814,3116653397&amp;fm=23&amp;gp=0"/>
            <p:cNvPicPr/>
            <p:nvPr/>
          </p:nvPicPr>
          <p:blipFill>
            <a:blip r:embed="rId2"/>
            <a:srcRect l="49524" t="0" r="23383" b="9095"/>
            <a:stretch/>
          </p:blipFill>
          <p:spPr>
            <a:xfrm>
              <a:off x="6609240" y="2122560"/>
              <a:ext cx="223452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AutoShape 8"/>
            <p:cNvSpPr/>
            <p:nvPr/>
          </p:nvSpPr>
          <p:spPr>
            <a:xfrm>
              <a:off x="2379600" y="3020760"/>
              <a:ext cx="3877560" cy="2692440"/>
            </a:xfrm>
            <a:prstGeom prst="wedgeRoundRectCallout">
              <a:avLst>
                <a:gd name="adj1" fmla="val 65671"/>
                <a:gd name="adj2" fmla="val -35356"/>
                <a:gd name="adj3" fmla="val 16667"/>
              </a:avLst>
            </a:prstGeom>
            <a:solidFill>
              <a:srgbClr val="ffffff"/>
            </a:solidFill>
            <a:ln w="88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Well, I think 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Harry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Potter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was exciting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   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but </a:t>
              </a:r>
              <a:r>
                <a:rPr b="1" i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Tom Sawyer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was a bit boring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Oval 2"/>
          <p:cNvSpPr/>
          <p:nvPr/>
        </p:nvSpPr>
        <p:spPr>
          <a:xfrm>
            <a:off x="544680" y="209520"/>
            <a:ext cx="1066680" cy="9619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4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544680" y="1171440"/>
          <a:ext cx="8229600" cy="4692960"/>
        </p:xfrm>
        <a:graphic>
          <a:graphicData uri="http://schemas.openxmlformats.org/drawingml/2006/table">
            <a:tbl>
              <a:tblPr/>
              <a:tblGrid>
                <a:gridCol w="2739960"/>
                <a:gridCol w="1298520"/>
                <a:gridCol w="2090520"/>
                <a:gridCol w="2100600"/>
              </a:tblGrid>
              <a:tr h="116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微软雅黑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微软雅黑"/>
                        </a:rPr>
                        <a:t>Your frien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微软雅黑"/>
                        </a:rPr>
                        <a:t>Comme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微软雅黑"/>
                        </a:rPr>
                        <a:t>Books I have already rea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微软雅黑"/>
                        </a:rPr>
                        <a:t>Movies I have already see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6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微软雅黑"/>
                        </a:rPr>
                        <a:t>Songs I have already hear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u=3817807929,1595482077&amp;fm=90&amp;gp=0"/>
          <p:cNvPicPr/>
          <p:nvPr/>
        </p:nvPicPr>
        <p:blipFill>
          <a:blip r:embed="rId1"/>
          <a:stretch/>
        </p:blipFill>
        <p:spPr>
          <a:xfrm>
            <a:off x="522360" y="279360"/>
            <a:ext cx="3601800" cy="379908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4124160" y="1063800"/>
            <a:ext cx="34624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ship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4" descr="u=1497883223,324754378&amp;fm=23&amp;gp=0"/>
          <p:cNvPicPr/>
          <p:nvPr/>
        </p:nvPicPr>
        <p:blipFill>
          <a:blip r:embed="rId2"/>
          <a:stretch/>
        </p:blipFill>
        <p:spPr>
          <a:xfrm>
            <a:off x="3860640" y="2967120"/>
            <a:ext cx="5150160" cy="342576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"/>
          <p:cNvSpPr/>
          <p:nvPr/>
        </p:nvSpPr>
        <p:spPr>
          <a:xfrm>
            <a:off x="401760" y="4575240"/>
            <a:ext cx="4060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tool   </a:t>
            </a:r>
            <a:r>
              <a:rPr b="1" i="1" lang="en-US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n. </a:t>
            </a:r>
            <a:r>
              <a:rPr b="1" lang="zh-CN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工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1157400" y="220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"/>
          <p:cNvSpPr/>
          <p:nvPr/>
        </p:nvSpPr>
        <p:spPr>
          <a:xfrm>
            <a:off x="531720" y="1392120"/>
            <a:ext cx="79520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I’ve brought back many things I can use-----food and drink,tools,knives and gu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to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可数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工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arpenter angrily flung away his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ool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and would work no long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木匠怒气冲冲地扔下工具不肯再干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t is an early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too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in recent excav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是最近发掘出的古代工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0" dur="500"/>
                                        <p:tgtEl>
                                          <p:spTgt spid="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AutoShape 2"/>
          <p:cNvSpPr/>
          <p:nvPr/>
        </p:nvSpPr>
        <p:spPr>
          <a:xfrm>
            <a:off x="1157400" y="220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3"/>
          <p:cNvSpPr/>
          <p:nvPr/>
        </p:nvSpPr>
        <p:spPr>
          <a:xfrm>
            <a:off x="766800" y="1501920"/>
            <a:ext cx="74437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gu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枪；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一般用作可数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e was clubbed to death with a butt of 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g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他是被人用枪托殴打致死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soldier saw a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g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jutting out from a bush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那士兵看见一支枪从矮树丛伸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8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1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AutoShape 2"/>
          <p:cNvSpPr/>
          <p:nvPr/>
        </p:nvSpPr>
        <p:spPr>
          <a:xfrm>
            <a:off x="1157400" y="220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674640" y="1227240"/>
            <a:ext cx="818208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A few weeks ago,I found the mark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nother man’s feet on the s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mar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可数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 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痕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污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recorder pen makes a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mar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on a chart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记录器的笔在记录卡上划一个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ar has left its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mar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on the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战争给该国留下了不可磨灭的痕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9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AutoShape 2"/>
          <p:cNvSpPr/>
          <p:nvPr/>
        </p:nvSpPr>
        <p:spPr>
          <a:xfrm>
            <a:off x="1157400" y="220680"/>
            <a:ext cx="436536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"/>
          <p:cNvSpPr/>
          <p:nvPr/>
        </p:nvSpPr>
        <p:spPr>
          <a:xfrm>
            <a:off x="714240" y="1227240"/>
            <a:ext cx="817092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意为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沙；沙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，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指细小的石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不可数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一粒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a grain of sa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a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可作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沙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”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含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大片大片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意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这时多用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复数形式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san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 grain of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a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made my right eye t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粒沙子弄得我右眼淌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he children on the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an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were shouting with exci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沙滩上的孩子们兴奋得大喊大叫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9" dur="500"/>
                                        <p:tgtEl>
                                          <p:spTgt spid="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8" dur="500"/>
                                        <p:tgtEl>
                                          <p:spTgt spid="7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1" dur="500"/>
                                        <p:tgtEl>
                                          <p:spTgt spid="7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882720" y="1106640"/>
            <a:ext cx="7731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 Who else is on my island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副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其他的；别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修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疑问词或不定代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时，放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所修饰词之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Is there anything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别的东西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What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did you do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昨天你还做了别的什么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还常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or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连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意为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否则；要不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You must pay 100 yuan or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els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go outside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必须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元，否则就得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/>
          <p:cNvSpPr/>
          <p:nvPr/>
        </p:nvSpPr>
        <p:spPr>
          <a:xfrm>
            <a:off x="1015920" y="100080"/>
            <a:ext cx="4365720" cy="1006560"/>
          </a:xfrm>
          <a:prstGeom prst="horizontalScroll">
            <a:avLst>
              <a:gd name="adj" fmla="val 12500"/>
            </a:avLst>
          </a:prstGeom>
          <a:solidFill>
            <a:srgbClr val="ccffff"/>
          </a:solidFill>
          <a:ln w="76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Language po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8" dur="1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10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7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7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矩形 6" descr=""/>
          <p:cNvPicPr/>
          <p:nvPr/>
        </p:nvPicPr>
        <p:blipFill>
          <a:blip r:embed="rId1"/>
          <a:stretch/>
        </p:blipFill>
        <p:spPr>
          <a:xfrm>
            <a:off x="2987640" y="422280"/>
            <a:ext cx="3381480" cy="858960"/>
          </a:xfrm>
          <a:prstGeom prst="rect">
            <a:avLst/>
          </a:prstGeom>
          <a:ln w="0">
            <a:noFill/>
          </a:ln>
        </p:spPr>
      </p:pic>
      <p:sp>
        <p:nvSpPr>
          <p:cNvPr id="720" name="Text Box 3"/>
          <p:cNvSpPr/>
          <p:nvPr/>
        </p:nvSpPr>
        <p:spPr>
          <a:xfrm>
            <a:off x="611280" y="1281240"/>
            <a:ext cx="827388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Where _____ can you find this kind of t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other                   B. another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. else                      D.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--- Have you _____ traveled on the bea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-- Yes, I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just       B. yet        C. never       D. 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--- Have you found your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-- Not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. ever        B. already      C. yet       D. j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2494080" y="1281240"/>
            <a:ext cx="9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5"/>
          <p:cNvSpPr/>
          <p:nvPr/>
        </p:nvSpPr>
        <p:spPr>
          <a:xfrm>
            <a:off x="3483000" y="2941560"/>
            <a:ext cx="9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6"/>
          <p:cNvSpPr/>
          <p:nvPr/>
        </p:nvSpPr>
        <p:spPr>
          <a:xfrm>
            <a:off x="2494080" y="5062680"/>
            <a:ext cx="98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399960" y="3675240"/>
            <a:ext cx="44895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gun  </a:t>
            </a:r>
            <a:r>
              <a:rPr b="1" i="1" lang="en-US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n. </a:t>
            </a:r>
            <a:r>
              <a:rPr b="1" lang="zh-CN" sz="4800" spc="-1" strike="noStrike">
                <a:solidFill>
                  <a:srgbClr val="0080ff"/>
                </a:solidFill>
                <a:latin typeface="Times New Roman"/>
                <a:ea typeface="宋体"/>
              </a:rPr>
              <a:t>枪、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149800" y="1709640"/>
            <a:ext cx="346068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island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u=4272340000,3829923780&amp;fm=23&amp;gp=0"/>
          <p:cNvPicPr/>
          <p:nvPr/>
        </p:nvPicPr>
        <p:blipFill>
          <a:blip r:embed="rId1"/>
          <a:stretch/>
        </p:blipFill>
        <p:spPr>
          <a:xfrm>
            <a:off x="655560" y="804960"/>
            <a:ext cx="2933640" cy="25146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8" descr="FC1F41~1"/>
          <p:cNvPicPr/>
          <p:nvPr/>
        </p:nvPicPr>
        <p:blipFill>
          <a:blip r:embed="rId2"/>
          <a:stretch/>
        </p:blipFill>
        <p:spPr>
          <a:xfrm>
            <a:off x="4351320" y="3054240"/>
            <a:ext cx="479268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5692680" y="206280"/>
            <a:ext cx="312912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sand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沙滩，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u=3201222789,1752476450&amp;fm=90&amp;gp=0"/>
          <p:cNvPicPr/>
          <p:nvPr/>
        </p:nvPicPr>
        <p:blipFill>
          <a:blip r:embed="rId1"/>
          <a:srcRect l="0" t="0" r="0" b="9362"/>
          <a:stretch/>
        </p:blipFill>
        <p:spPr>
          <a:xfrm>
            <a:off x="671400" y="585720"/>
            <a:ext cx="4206960" cy="26560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4" descr="u=4113366824,2006295226&amp;fm=23&amp;gp=0"/>
          <p:cNvPicPr/>
          <p:nvPr/>
        </p:nvPicPr>
        <p:blipFill>
          <a:blip r:embed="rId2"/>
          <a:stretch/>
        </p:blipFill>
        <p:spPr>
          <a:xfrm>
            <a:off x="5073480" y="2359080"/>
            <a:ext cx="3926160" cy="3995640"/>
          </a:xfrm>
          <a:prstGeom prst="rect">
            <a:avLst/>
          </a:prstGeom>
          <a:ln w="0">
            <a:noFill/>
          </a:ln>
        </p:spPr>
      </p:pic>
      <p:sp>
        <p:nvSpPr>
          <p:cNvPr id="639" name="Text Box 5"/>
          <p:cNvSpPr/>
          <p:nvPr/>
        </p:nvSpPr>
        <p:spPr>
          <a:xfrm>
            <a:off x="407880" y="3703680"/>
            <a:ext cx="447048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towards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prep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朝，向，对着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4826160" y="4697280"/>
            <a:ext cx="3460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land   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.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陆地，大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3" descr="u=1703422098,2138623982&amp;fm=23&amp;gp=0"/>
          <p:cNvPicPr/>
          <p:nvPr/>
        </p:nvPicPr>
        <p:blipFill>
          <a:blip r:embed="rId1"/>
          <a:stretch/>
        </p:blipFill>
        <p:spPr>
          <a:xfrm>
            <a:off x="668160" y="452520"/>
            <a:ext cx="3365640" cy="41227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4"/>
          <p:cNvSpPr/>
          <p:nvPr/>
        </p:nvSpPr>
        <p:spPr>
          <a:xfrm>
            <a:off x="668160" y="4575240"/>
            <a:ext cx="3461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cannibal  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n.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食人肉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5" descr="u=2561175211,4049458349&amp;fm=90&amp;gp=0"/>
          <p:cNvPicPr/>
          <p:nvPr/>
        </p:nvPicPr>
        <p:blipFill>
          <a:blip r:embed="rId2"/>
          <a:srcRect l="0" t="0" r="0" b="8874"/>
          <a:stretch/>
        </p:blipFill>
        <p:spPr>
          <a:xfrm>
            <a:off x="4332240" y="606600"/>
            <a:ext cx="46054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460440" y="361800"/>
            <a:ext cx="8423280" cy="1522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a. </a:t>
            </a:r>
            <a:r>
              <a:rPr b="1" lang="en-US" sz="3600" spc="-1" strike="noStrike">
                <a:solidFill>
                  <a:srgbClr val="0080ff"/>
                </a:solidFill>
                <a:latin typeface="Times New Roman"/>
                <a:ea typeface="宋体"/>
              </a:rPr>
              <a:t>Read the passage based on </a:t>
            </a:r>
            <a:r>
              <a:rPr b="1" i="1" lang="en-US" sz="3600" spc="-1" strike="noStrike">
                <a:solidFill>
                  <a:srgbClr val="0080ff"/>
                </a:solidFill>
                <a:latin typeface="Times New Roman"/>
                <a:ea typeface="宋体"/>
              </a:rPr>
              <a:t>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ff"/>
                </a:solidFill>
                <a:latin typeface="Times New Roman"/>
                <a:ea typeface="宋体"/>
              </a:rPr>
              <a:t>     </a:t>
            </a:r>
            <a:r>
              <a:rPr b="1" i="1" lang="en-US" sz="3600" spc="-1" strike="noStrike">
                <a:solidFill>
                  <a:srgbClr val="0080ff"/>
                </a:solidFill>
                <a:latin typeface="Times New Roman"/>
                <a:ea typeface="宋体"/>
              </a:rPr>
              <a:t>Crusoe</a:t>
            </a:r>
            <a:r>
              <a:rPr b="1" lang="en-US" sz="3600" spc="-1" strike="noStrike">
                <a:solidFill>
                  <a:srgbClr val="0080ff"/>
                </a:solidFill>
                <a:latin typeface="Times New Roman"/>
                <a:ea typeface="宋体"/>
              </a:rPr>
              <a:t>. Then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06280" y="20268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What does Robinson Crusoe wait for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Why does Robinson Crusoe call the man Friday?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781200" y="2765520"/>
            <a:ext cx="3241440" cy="752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Another 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781200" y="4906800"/>
            <a:ext cx="7848360" cy="1410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ecause that was the day he met the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622440" y="65160"/>
            <a:ext cx="8277120" cy="1422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b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Read the passage again. Find wor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that have these meanings.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04920" y="1487160"/>
            <a:ext cx="85946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ff"/>
                </a:solidFill>
                <a:latin typeface="Times New Roman"/>
              </a:rPr>
              <a:t>1. You can use these to shoot things: 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ff"/>
                </a:solidFill>
                <a:latin typeface="Times New Roman"/>
              </a:rPr>
              <a:t>2. Something you use to travel in the sea: 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ff"/>
                </a:solidFill>
                <a:latin typeface="Times New Roman"/>
              </a:rPr>
              <a:t>3. A piece of land in the middle of the sea: 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ff"/>
                </a:solidFill>
                <a:latin typeface="Times New Roman"/>
              </a:rPr>
              <a:t>4. You can use these to cut things: 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ff"/>
                </a:solidFill>
                <a:latin typeface="Times New Roman"/>
              </a:rPr>
              <a:t>5. Signs left behind by someone or something: ______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7596360" y="1481040"/>
            <a:ext cx="1223640" cy="72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g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755640" y="2708280"/>
            <a:ext cx="1224000" cy="72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757080" y="4005360"/>
            <a:ext cx="1511280" cy="72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7093080" y="4649760"/>
            <a:ext cx="1582560" cy="72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kn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2987640" y="5877000"/>
            <a:ext cx="1584360" cy="724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AutoShape 2"/>
          <p:cNvSpPr/>
          <p:nvPr/>
        </p:nvSpPr>
        <p:spPr>
          <a:xfrm>
            <a:off x="1379520" y="262080"/>
            <a:ext cx="7091280" cy="11048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3c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rrect the sentences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"/>
          <p:cNvSpPr/>
          <p:nvPr/>
        </p:nvSpPr>
        <p:spPr>
          <a:xfrm>
            <a:off x="425520" y="1568520"/>
            <a:ext cx="8458200" cy="3384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. Robinson Crusoe arrived on the island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ith enough food and drin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. Friday made a small b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896760" y="2927520"/>
            <a:ext cx="7326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binson Crusoe arrived on the island with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896760" y="4950000"/>
            <a:ext cx="732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binson made a small bo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Oval 2"/>
          <p:cNvSpPr/>
          <p:nvPr/>
        </p:nvSpPr>
        <p:spPr>
          <a:xfrm>
            <a:off x="544680" y="208080"/>
            <a:ext cx="1196640" cy="106668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544680" y="1274760"/>
            <a:ext cx="8458200" cy="47005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 Robinson had some food and tool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en he first arrived on the is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. Robinson used the ship to build a                                                   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4"/>
          <p:cNvSpPr/>
          <p:nvPr/>
        </p:nvSpPr>
        <p:spPr>
          <a:xfrm>
            <a:off x="987480" y="2681280"/>
            <a:ext cx="732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binson had nothing when he first arrived on the isl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987480" y="5170320"/>
            <a:ext cx="7327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Robinson cut down trees to build his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daidai</dc:creator>
  <dc:description/>
  <cp:keywords/>
  <dc:language>en-US</dc:language>
  <cp:lastModifiedBy>will</cp:lastModifiedBy>
  <dcterms:modified xsi:type="dcterms:W3CDTF">2016-03-25T03:25:53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